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469C-219A-4D32-9813-4030A3E0F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0A80-A3D7-42DA-94F4-D2D9C7167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ED4F4A-028D-4B1D-A7D8-4DE9420A4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669E53-CDEF-4A0F-8EE6-2A1380C20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31FE36-5070-4861-A04C-CDEA67E5C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56B31D-5BAF-4173-B1D7-83C0C642B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E6F76F-BF43-4E57-815B-B60586EF8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C887C2-C6E0-4014-A1C5-25BAF2F71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A9F4DE-BBE6-4F83-94BB-0098D8925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1C26B6-C0BB-4C85-A249-EA96C3332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E17E1D-A818-4877-B8EF-AC3EA70C7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36946B-87CE-42E1-914A-BC11E7BC5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D571-40FF-4BB6-8CAE-87D0F1C33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7061BB-335E-4354-BB05-41F55C199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3B1F96-922C-4C6E-BFBA-5A42B6BBD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BF97D6-3E3B-4609-A280-372EAF890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10D5BD-B845-4FC2-BB77-565DC5652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FC86D9-0F6A-4BA4-B2C0-E22428938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26D18C-9751-4162-8BAC-0DC7D3B0F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594C89-B044-4881-BEE0-4AC31F1D2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21FDF7-2F61-4A62-B954-97D1CDD8A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162203-F5F9-4404-A1F8-E3E530D2D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125AB8-3777-49C9-B323-A00661477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C5DC-227D-4C13-8D68-75D703C38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AA0890-7161-44D7-B257-734A1B12F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027F2C-FDDC-4176-9CCA-F4FB8608A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6ED97D-2596-46A2-8B63-F2ED58ABB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7E91D5-4A84-46D7-845C-EB4355151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40C43F-0FAF-4ED8-90D5-D435DC020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0801AD-CAF3-405B-9600-B10D6D976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93EE77-F20E-4922-8672-A574F067A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D3B6DB-70C8-415B-826E-44361B747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742262-A7F5-46F2-ACD5-709CFE23D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775AEB-519A-4F56-BBFF-1734F4B4E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20E09-ACA4-4921-9671-6FDDE9C58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8A5249-D0C5-4166-8560-40FB8787A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B00FC7-4C34-4A64-B85E-5BA5F2195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AE3D22-5B65-4B32-A453-7A390A714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273A18-1FB1-48A6-AF84-0DCE9B60C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7FAA0C-8D5D-404A-84C8-57B67546B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8DC0E8-3E6B-4A89-99AA-E7A83B1D5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2C1C74-176D-4FAE-88CC-C745961A3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7F8126-E2A8-4650-8B3F-31CEBA2ED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0D850B-06B2-4874-906C-2C822FA6B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863127-4372-45ED-95CD-C511224AA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8192E-92C3-4AE5-8C96-649030329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8CD110-1A4C-467F-B57D-FADC8DA5C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67FC28-E42A-465D-9CC1-2386273F6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91C31B-4E6E-4479-ABEB-01548F148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64BC57-B5B3-4009-83AC-CCADFC9E1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3D14DE-FF60-4C66-B9ED-01E696960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73D350-E664-486C-928F-470ADBDF6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839A2A-FB1C-4393-8C4A-FC99F5D0C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B63421-0FBA-4F1C-8EE0-519DDFB9F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0DE0AA-109F-40A4-BA2F-8CC2FC69A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8A96C1-CFF9-4BEC-9180-9C2CF524E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DB88A-8BDB-49EA-9BD7-7EC15E646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0BC299-7B10-4386-A8A5-23E2845B5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81DFB3-BB9E-468B-9197-A65C0F782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563FB5-368C-46A8-ADCA-A091007D1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14E437-F823-4C31-BC12-BD8F66E1D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06E920-EA50-4033-86A2-BDBF09B1B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784AA6-BF7F-45DE-B7F8-8DB4F20E2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703266-401E-4C64-B835-661479263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1DD2CC-109A-4CE3-9F74-5E2A2E386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BA7CC8-58C2-4C5B-85E0-67A903DAC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DD99D6-DD5C-457A-966B-B7F46DF81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C378D-1525-4E44-8D27-BF0A81E47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9FFE3B-E279-4B59-BC7C-A36DAAA17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39E932-EE25-4925-B8A2-6B5D9BC6C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9586F3-DD96-4FBA-AAE0-D7F254827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22F5E3-FEC0-4DCA-B86F-BF158EE1B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8BA30E-9BE8-4B17-9D3C-32411B4A9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247558-E4F1-47C5-A7D0-F817F6B0F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08982E-F4FA-467D-BB2C-4C7A9D372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C55B74-5D3B-4A83-BF9D-61CCB5623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BCCA37-640D-443F-8D19-B597A850E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E5C9322-360D-4F60-878F-36F547148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B1AB6-A542-48A9-B18B-BB231A39C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F2EB9EF-D136-49A8-9044-684309C16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99D8A62-31C2-487C-A429-C69594B6F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24A7183-C073-4E98-A96F-51F0E7B77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E140B21-5465-4DCE-AC61-D409F1126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AAEF14B-1BF9-4EC1-88D5-F6FEFB050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DBB21A1-C346-4D08-8EBD-C41380A5E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C17F596-D0B9-49BF-86D9-A5CAAEF08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2A328D7-8188-40CD-A887-DD2249A9A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B309123-42EA-4E2D-9CC2-E415ACB15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16B6798-E509-4B81-BD30-03290510C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7DF5C-BC2F-41B4-BCE3-F42919A6F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B397BFE-5586-4385-A391-10BFD099D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AFC83D3-8288-4B0B-9672-CA3495854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6928135-0836-4F6E-95DE-B57068BA3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EFAB183-8220-457F-BB31-89BD0D090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7ABF2B8-E948-404D-93ED-AE9B8408D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1EEFD02-7E15-4CA6-AC55-F397A1768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6BAD2BE-A17F-4A3C-8045-A1E4D64D6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8CE54A3-28D3-4C2E-AB1E-6FD029FFE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73A1C6A-3743-42EA-97EC-BFF6E23D1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DEE265E-5801-4CE9-91AA-7A754CDCA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3E476-99F3-4D71-A591-65728FE75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EA57B32-CEB2-4927-96D1-91F79A61C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E9E0856-BF25-4FAA-802E-5A7E05459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06640A7-BB53-4F43-A9E1-B26EDB07D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8077BC9-0F10-4A82-B282-311E8F251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C79C932-BC0A-4E36-9B4F-88EA28069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FFF3D2B-BB32-4535-A35B-2F178704B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184B600-38B8-4659-9431-0E202EDB9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9FA03D5-38FD-4FAD-8408-1280DF48D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85200FC-CAB6-43BA-9758-238C8AE3A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543FCC2-677F-46AF-9DFA-56BC6E0CF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88A0-24F7-4B5D-BF82-4FCC16C3E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97CA2-6A7D-41F2-B520-DD8AE38C7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2B23E6C-21CB-40C9-BA7B-187CE2BD6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171E280-1FE4-43AF-BAB5-900F61607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3F7927F-F0EF-47EF-9929-1B5EE53DE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EF94011-907C-4C2E-96D2-D7BC34792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0F97687-6958-4B6A-AA71-FDA468516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3A09C54-6934-4C8F-A4A7-5599DA294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352292D-DD6C-4D75-8AE3-91670271F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53CE730-0880-417D-9D9D-C7E6C7CDA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49F80DE-D88F-4F9C-A039-7BAD4F34A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8F9913C-DC42-4515-8FA6-2C02E25E8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F3669-2A46-4ECB-9ED6-683CC4B81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8CFDF38-C950-48B2-863A-1906FD6D4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6F9D1F0-79C9-46E6-8A41-506E6E6D0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71280FB-C1F7-494E-A085-92934B280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0F77613-8294-4EE6-9F1F-E5F653295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C8FF4E3-266E-4B62-80CA-72261D506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842915A-D03A-4557-812E-39AC48B67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F28A8DA-BD1A-4EFC-BA3E-FED48782C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89FF868-AF00-423D-B610-D762809EC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3A08828-35D9-479F-8330-F3B90EB76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EDB26CC-8859-4837-8775-25F4FFF0E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7F022-3FA8-4DA5-947C-C2BF2053E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0885682-B4AE-4537-9C68-F2608D4AF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AE61702-44CD-4371-A148-8FF57F71F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642764E-3F7F-4E78-BF80-88343C636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4DF4238-8EB4-417A-B002-CF3B986AB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1C39AA9-CEC8-43C5-842D-3EB3ED854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D6C10D8-491B-4CEB-88A2-9C9BA396E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A0C2E8A-9DD8-43F9-805E-359EB5299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8FD0D2E-B16C-4916-87CF-DBDC7EF7A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2999749-BDB0-41AA-A9A8-9B16B4872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83BB4AC-64E5-4B6F-8DF6-049A6E913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DC19A-B7B1-44D3-ABE4-357FF72CD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129B36D-27FF-44D3-9244-41EF394C2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E52A539-1773-4AA9-9526-AA63F7807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2BD3AE3-5169-4BF1-B683-513F89B2B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A2EEFB5-0E3F-48F9-A9E5-424DE49DB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45A8D9B-E019-41C2-BCA1-7C9325EF5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0E139A6-4D00-42E9-AD46-B6A12C607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38B7DFF-D4DB-41FC-8A94-0138F97E1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B80FFBE-544B-4F99-B3E9-7A8310054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A31A0E5-DFDB-41B8-9005-F8C93E7F6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9183D32-3A32-4052-8B6F-9A223AC12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C7933-0136-45CD-97F5-45C5B860B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A8A5306-34D2-4D5D-9489-B6656C3C9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D06CDC1-043F-42D7-980A-B131DB4F8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1C19372-D8F3-4A20-B072-526E657A3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F21B28C-0CFF-4C77-9A5A-671BD3333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4CEBACF-557D-481E-B73A-5A4797763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F45BA8B-FD08-4A3E-BEFF-9D3F4E826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04624C3-934F-426B-B8C1-5710A95EB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7E9D02B-D163-49A4-B651-DE4E85D2E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BDEE02F-EF2D-433F-A004-5BDC1BEE0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C6CE84C-D363-454A-8F70-CFE94DEC0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3113B0-77D2-40CB-97C0-797F55092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923C882-D2FE-4A8B-B555-FC31B8D38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27BFA9B-85F2-4EBE-9F95-AA5210096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03160A0-54BC-4D83-80FE-A529DAF60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6366C1-E9DA-43E1-AA06-E24CE26BC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A20D3F-1C81-4F0B-81FB-4E8F2F962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BF69E8-5CEB-4B30-823F-5861B5C93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EE542F-00D2-45FF-AF76-704A24F49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7950-6198-41DC-8E9C-0E993C4F8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9E84B7-54EA-4CBA-9C9E-780D862BF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08C27F-FA6E-43FE-B0CF-7B3DBB825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1FCC1F-DC43-4FAC-9002-AAB4EBE6D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02D3A9-6224-44FE-8314-F2D5559DD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064AC4-0B94-4D8F-BF59-915C53D9B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CF04A7-AE79-49B7-99FC-3F328E008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E79C40-7527-418B-9209-E65AFE52C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54F013-C1DF-4BBF-A97E-7DE41F6FC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4FAA96-2FF8-4646-9F41-FF9C8F6F4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DC5754-9161-4E52-8499-CE5639EA9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4C6D-A625-46B8-9A57-26D0AEC90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D23F4C-FE52-4A9B-9F1A-2D8C74F45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A0D5D9-F38F-4E0B-B66D-54CB6C987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CBE563-3CA5-4719-81EC-9BCE259EA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2A9034-5E8B-46AE-B671-DF4C06EF5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C3B0A3-105E-4D54-BAA7-8B2988C92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226653-50A0-406B-AFD2-A27959302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7C01DE-F648-4113-9E4F-4542C079F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8891E3-51F9-4826-B85B-716AC7700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4A46E1-EE6A-4A32-9113-17A217A1F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18329D-28EF-490E-97A1-26F8FC7DC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8D9F-73C4-493E-86DD-EAB8D7B51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BD53BC-5BA4-49AF-8984-795B7C38A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16A00A-B53C-407A-91A8-CE31F9734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68E39B-9F01-4723-B009-A65CE095B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84ECC3-8AD9-47F8-AD6A-8342EFBF7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B64BAF-E656-436B-865F-6590C47DC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DE2F7A-9938-4A52-B47E-660C37257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DA73B0-6809-4070-868B-E21C4541B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D66EF7-DD21-4E4F-B8DC-A11CF2098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AA7CC7-7887-4F33-B65A-FF38DD080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2B71FC-6838-47BE-BCDE-D8A6259DF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028C-253C-4186-9A4A-15A6739EB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DAA9CA-5C67-4963-9500-B6C56C4ED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D13BE4-2918-40C2-8196-C02A46CB3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3ADF1E-06A7-4AE2-9736-1210A8DEC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029137-299C-401A-8A74-CEB221FB9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94D309-C4AF-4E8A-AE6C-555EDF493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D52C9B-7E57-44FF-91AC-70A8275EE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20184B-AD3C-49B4-8B79-10DD8B7F1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AF37FF-1E32-4ACC-B4D2-6DDE4C985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300BEA-E7BD-498E-B6B9-247AA49D1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96B3F6-7311-494F-9B1E-74173ED7E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E29F-E6BE-4D33-B5B3-9492BAA60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18E771-8816-4319-9594-C81E40D6A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54039C-3468-4F2F-964A-5F235F5C5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E632B1-50A9-4E00-B6B2-CF28F97ED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E1EB60-7123-44FC-9C66-E27C03BBA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4D33A6-A454-41FE-9274-2C60DF960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877856-1948-4FCC-8C19-FED4FA001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70C7B8-74DD-4CA1-A250-5D9B4B464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36D12C-0B25-4781-B121-18ED5F658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DC43BA-3E72-4E8D-AB0B-01A56C00B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41A352-D335-421F-9D2D-92B91846C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EEE8-D790-4143-99D7-366E172B2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2FA1A6-5F5F-4DB4-BAEA-B5BB4ACAC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1AEF2B-E008-48CF-8F7A-8540CD31B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0A1C36-E2E7-4241-994F-219FD61EF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B21E39-CF65-483A-9809-42BAFFF0B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CF73FE-61F1-4C9D-9A1F-AC3460A31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5C7CC6-C0BC-4462-A57C-251E1A60B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86C074-5412-4CA0-878D-239654D4D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7F7C4F-7CD6-4C08-B81B-E58588C9D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D249CF-F622-41C7-820B-5525ACC77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EC3D49-D7C0-4367-A4BD-242B5B94F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8920-705F-4609-83A4-BF109193E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66DE18-90E0-4C6E-9428-6B408AA0A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25094F-492F-450C-A2D9-738AA7C85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BD7533-01AF-418F-93E2-B2112FEDB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E910B7-441D-4F5B-AEB0-C0FCCB04A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6DE547-E553-41AB-8691-512195D4F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7AF374-B8B6-4CB5-9222-45C1673AE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AB13A3-4B35-4EA1-BDE9-D3AC5CB7B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E226DB-8712-4999-A595-A30E48703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D87B30-A863-48E6-B05C-205ACF105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80C95B-6425-4652-9F74-8F31F2095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9A865-B5D3-4125-9267-B056729AE3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03904-A078-4A00-BAE9-4E6CF55A2A2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A9B7D-1A25-47BD-91E9-9BAF6EA92CA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3F9DE-DB12-498B-8422-D72D4D8CC7F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C91E5-0A52-4031-95F6-DAA12082F0B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AE3C8-865D-4977-8CC0-E5690A349EA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1B747-089F-4EA0-A598-A4C863AE68C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BD46A-CDEB-47D1-A9FB-5F0D608AC4A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28BB3-4A29-4F9E-8417-6164228A70B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77153-9597-4628-90CB-98E129ABDC9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C05FF-7D39-484B-A008-E8B08610FA8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57EF1-C4F5-490F-A7ED-031FFE345E3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9F4B4-DEEF-478B-8D1D-57678E90700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C90BD-98B4-410A-AF73-921D76F2BAE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393F5-B149-436B-95F9-5D733B527C5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A1F1B-128F-43EE-B32A-D9E9F8628D8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83E00-EC9B-4C5E-B4AB-E6A7D7813E6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F503A-47AA-4C0E-B9B1-F483BFDA8D3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F92C0-C385-44C4-8773-88338115AD6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70221-CC4B-46FF-B2C3-9C37E8A64AD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54D28-7DFD-497A-932D-42734597B43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8AD82-DE37-4C24-AB88-2B3D1A635D6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B909F-5E51-425A-B255-DECC61563E6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96593-F26D-482E-98A2-0C3F23D4010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A7CD2-8B10-4983-B2C2-F1A2DBE0042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BC12B-4248-43B3-8FDE-8815F8F5C75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E4452-443B-4157-A4AC-754E2CEEBB2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BFC56-093A-4454-997C-2CCEE22281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09859-7C50-4A61-8C74-445F8EDCF50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8F1CB-37BB-4B6A-8D1C-B19927C6B1E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E4B9E-33C4-4D15-A1D1-76DB4612AE1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BEBC2-6EF7-4772-9861-B67E376EAE8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41833-AC98-4390-AE24-FDE59FEA2B9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D2C06-ED19-4132-92C7-27D35C648A2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4C369-D916-4677-9F56-CBEFCB220D0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D7C8D-E66D-4460-9A76-64CF6C6FEE9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A50CA-9128-48BC-AFCF-A324F56E6A8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5CCC0-BE7A-4403-9219-833D259F0EB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366E2-7C94-41B2-8169-F70B358D7EB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50E8E-9AD2-42BA-80FC-3EE2D66E690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Picture 1" descr=""/>
          <p:cNvPicPr/>
          <p:nvPr/>
        </p:nvPicPr>
        <p:blipFill>
          <a:blip r:embed="rId1"/>
          <a:stretch/>
        </p:blipFill>
        <p:spPr>
          <a:xfrm>
            <a:off x="1428840" y="2786040"/>
            <a:ext cx="6305400" cy="78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Picture 1" descr=""/>
          <p:cNvPicPr/>
          <p:nvPr/>
        </p:nvPicPr>
        <p:blipFill>
          <a:blip r:embed="rId1"/>
          <a:stretch/>
        </p:blipFill>
        <p:spPr>
          <a:xfrm>
            <a:off x="281160" y="781200"/>
            <a:ext cx="8581680" cy="593388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4" descr=""/>
          <p:cNvPicPr/>
          <p:nvPr/>
        </p:nvPicPr>
        <p:blipFill>
          <a:blip r:embed="rId2"/>
          <a:stretch/>
        </p:blipFill>
        <p:spPr>
          <a:xfrm>
            <a:off x="750960" y="2286000"/>
            <a:ext cx="542880" cy="43020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4" descr=""/>
          <p:cNvPicPr/>
          <p:nvPr/>
        </p:nvPicPr>
        <p:blipFill>
          <a:blip r:embed="rId3"/>
          <a:stretch/>
        </p:blipFill>
        <p:spPr>
          <a:xfrm>
            <a:off x="750960" y="3570120"/>
            <a:ext cx="542880" cy="43056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4" descr=""/>
          <p:cNvPicPr/>
          <p:nvPr/>
        </p:nvPicPr>
        <p:blipFill>
          <a:blip r:embed="rId4"/>
          <a:stretch/>
        </p:blipFill>
        <p:spPr>
          <a:xfrm>
            <a:off x="750960" y="5326200"/>
            <a:ext cx="542880" cy="43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7" name="Picture 1" descr=""/>
          <p:cNvPicPr/>
          <p:nvPr/>
        </p:nvPicPr>
        <p:blipFill>
          <a:blip r:embed="rId1"/>
          <a:stretch/>
        </p:blipFill>
        <p:spPr>
          <a:xfrm>
            <a:off x="276120" y="912960"/>
            <a:ext cx="8591760" cy="390528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2" descr=""/>
          <p:cNvPicPr/>
          <p:nvPr/>
        </p:nvPicPr>
        <p:blipFill>
          <a:blip r:embed="rId2"/>
          <a:stretch/>
        </p:blipFill>
        <p:spPr>
          <a:xfrm>
            <a:off x="1749600" y="4952880"/>
            <a:ext cx="7076880" cy="161928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3" descr=""/>
          <p:cNvPicPr/>
          <p:nvPr/>
        </p:nvPicPr>
        <p:blipFill>
          <a:blip r:embed="rId3"/>
          <a:stretch/>
        </p:blipFill>
        <p:spPr>
          <a:xfrm>
            <a:off x="6032520" y="4786200"/>
            <a:ext cx="1714320" cy="30492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4" descr=""/>
          <p:cNvPicPr/>
          <p:nvPr/>
        </p:nvPicPr>
        <p:blipFill>
          <a:blip r:embed="rId4"/>
          <a:stretch/>
        </p:blipFill>
        <p:spPr>
          <a:xfrm>
            <a:off x="750960" y="2643120"/>
            <a:ext cx="542880" cy="43020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4" descr=""/>
          <p:cNvPicPr/>
          <p:nvPr/>
        </p:nvPicPr>
        <p:blipFill>
          <a:blip r:embed="rId5"/>
          <a:stretch/>
        </p:blipFill>
        <p:spPr>
          <a:xfrm>
            <a:off x="750960" y="4356000"/>
            <a:ext cx="542880" cy="43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2" name="Picture 1" descr=""/>
          <p:cNvPicPr/>
          <p:nvPr/>
        </p:nvPicPr>
        <p:blipFill>
          <a:blip r:embed="rId1"/>
          <a:stretch/>
        </p:blipFill>
        <p:spPr>
          <a:xfrm>
            <a:off x="328680" y="1000080"/>
            <a:ext cx="8486640" cy="557208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4" descr=""/>
          <p:cNvPicPr/>
          <p:nvPr/>
        </p:nvPicPr>
        <p:blipFill>
          <a:blip r:embed="rId2"/>
          <a:stretch/>
        </p:blipFill>
        <p:spPr>
          <a:xfrm>
            <a:off x="5000760" y="1428840"/>
            <a:ext cx="1428480" cy="36828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4" descr=""/>
          <p:cNvPicPr/>
          <p:nvPr/>
        </p:nvPicPr>
        <p:blipFill>
          <a:blip r:embed="rId3"/>
          <a:stretch/>
        </p:blipFill>
        <p:spPr>
          <a:xfrm>
            <a:off x="2071800" y="2286000"/>
            <a:ext cx="1143000" cy="36828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4" descr=""/>
          <p:cNvPicPr/>
          <p:nvPr/>
        </p:nvPicPr>
        <p:blipFill>
          <a:blip r:embed="rId4"/>
          <a:stretch/>
        </p:blipFill>
        <p:spPr>
          <a:xfrm>
            <a:off x="4000680" y="3141720"/>
            <a:ext cx="1143000" cy="36972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4" descr=""/>
          <p:cNvPicPr/>
          <p:nvPr/>
        </p:nvPicPr>
        <p:blipFill>
          <a:blip r:embed="rId5"/>
          <a:stretch/>
        </p:blipFill>
        <p:spPr>
          <a:xfrm>
            <a:off x="3714840" y="3571920"/>
            <a:ext cx="1357200" cy="36828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4" descr=""/>
          <p:cNvPicPr/>
          <p:nvPr/>
        </p:nvPicPr>
        <p:blipFill>
          <a:blip r:embed="rId6"/>
          <a:stretch/>
        </p:blipFill>
        <p:spPr>
          <a:xfrm>
            <a:off x="1785960" y="4427640"/>
            <a:ext cx="1500120" cy="36972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4" descr=""/>
          <p:cNvPicPr/>
          <p:nvPr/>
        </p:nvPicPr>
        <p:blipFill>
          <a:blip r:embed="rId7"/>
          <a:stretch/>
        </p:blipFill>
        <p:spPr>
          <a:xfrm>
            <a:off x="4429080" y="6143760"/>
            <a:ext cx="1143000" cy="36828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4" descr=""/>
          <p:cNvPicPr/>
          <p:nvPr/>
        </p:nvPicPr>
        <p:blipFill>
          <a:blip r:embed="rId8"/>
          <a:stretch/>
        </p:blipFill>
        <p:spPr>
          <a:xfrm>
            <a:off x="5929200" y="6132600"/>
            <a:ext cx="1500480" cy="36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0" name="Picture 1" descr=""/>
          <p:cNvPicPr/>
          <p:nvPr/>
        </p:nvPicPr>
        <p:blipFill>
          <a:blip r:embed="rId1"/>
          <a:stretch/>
        </p:blipFill>
        <p:spPr>
          <a:xfrm>
            <a:off x="338040" y="1014480"/>
            <a:ext cx="8467920" cy="548640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4" descr=""/>
          <p:cNvPicPr/>
          <p:nvPr/>
        </p:nvPicPr>
        <p:blipFill>
          <a:blip r:embed="rId2"/>
          <a:stretch/>
        </p:blipFill>
        <p:spPr>
          <a:xfrm>
            <a:off x="3571920" y="1440000"/>
            <a:ext cx="1428840" cy="36828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4" descr=""/>
          <p:cNvPicPr/>
          <p:nvPr/>
        </p:nvPicPr>
        <p:blipFill>
          <a:blip r:embed="rId3"/>
          <a:stretch/>
        </p:blipFill>
        <p:spPr>
          <a:xfrm>
            <a:off x="6929280" y="1428840"/>
            <a:ext cx="1571760" cy="36828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4" descr=""/>
          <p:cNvPicPr/>
          <p:nvPr/>
        </p:nvPicPr>
        <p:blipFill>
          <a:blip r:embed="rId4"/>
          <a:stretch/>
        </p:blipFill>
        <p:spPr>
          <a:xfrm>
            <a:off x="2357280" y="2695680"/>
            <a:ext cx="1428840" cy="36828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4" descr=""/>
          <p:cNvPicPr/>
          <p:nvPr/>
        </p:nvPicPr>
        <p:blipFill>
          <a:blip r:embed="rId5"/>
          <a:stretch/>
        </p:blipFill>
        <p:spPr>
          <a:xfrm>
            <a:off x="4357800" y="2714760"/>
            <a:ext cx="1143000" cy="36828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4" descr=""/>
          <p:cNvPicPr/>
          <p:nvPr/>
        </p:nvPicPr>
        <p:blipFill>
          <a:blip r:embed="rId6"/>
          <a:stretch/>
        </p:blipFill>
        <p:spPr>
          <a:xfrm>
            <a:off x="5072040" y="4002120"/>
            <a:ext cx="785880" cy="36972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4" descr=""/>
          <p:cNvPicPr/>
          <p:nvPr/>
        </p:nvPicPr>
        <p:blipFill>
          <a:blip r:embed="rId7"/>
          <a:stretch/>
        </p:blipFill>
        <p:spPr>
          <a:xfrm>
            <a:off x="7143840" y="4000680"/>
            <a:ext cx="1357200" cy="36828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4" descr=""/>
          <p:cNvPicPr/>
          <p:nvPr/>
        </p:nvPicPr>
        <p:blipFill>
          <a:blip r:embed="rId8"/>
          <a:stretch/>
        </p:blipFill>
        <p:spPr>
          <a:xfrm>
            <a:off x="3500280" y="5278320"/>
            <a:ext cx="1785960" cy="36828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4" descr=""/>
          <p:cNvPicPr/>
          <p:nvPr/>
        </p:nvPicPr>
        <p:blipFill>
          <a:blip r:embed="rId9"/>
          <a:stretch/>
        </p:blipFill>
        <p:spPr>
          <a:xfrm>
            <a:off x="5794200" y="5267160"/>
            <a:ext cx="1143000" cy="3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9" name="Picture 1" descr=""/>
          <p:cNvPicPr/>
          <p:nvPr/>
        </p:nvPicPr>
        <p:blipFill>
          <a:blip r:embed="rId1"/>
          <a:stretch/>
        </p:blipFill>
        <p:spPr>
          <a:xfrm>
            <a:off x="328680" y="824040"/>
            <a:ext cx="8486640" cy="581976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4" descr=""/>
          <p:cNvPicPr/>
          <p:nvPr/>
        </p:nvPicPr>
        <p:blipFill>
          <a:blip r:embed="rId2"/>
          <a:stretch/>
        </p:blipFill>
        <p:spPr>
          <a:xfrm>
            <a:off x="5929200" y="785880"/>
            <a:ext cx="1143000" cy="36828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4" descr=""/>
          <p:cNvPicPr/>
          <p:nvPr/>
        </p:nvPicPr>
        <p:blipFill>
          <a:blip r:embed="rId3"/>
          <a:stretch/>
        </p:blipFill>
        <p:spPr>
          <a:xfrm>
            <a:off x="7429680" y="817560"/>
            <a:ext cx="1143000" cy="36828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4" descr=""/>
          <p:cNvPicPr/>
          <p:nvPr/>
        </p:nvPicPr>
        <p:blipFill>
          <a:blip r:embed="rId4"/>
          <a:stretch/>
        </p:blipFill>
        <p:spPr>
          <a:xfrm>
            <a:off x="1928880" y="4950000"/>
            <a:ext cx="1143000" cy="36828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4" descr=""/>
          <p:cNvPicPr/>
          <p:nvPr/>
        </p:nvPicPr>
        <p:blipFill>
          <a:blip r:embed="rId5"/>
          <a:stretch/>
        </p:blipFill>
        <p:spPr>
          <a:xfrm>
            <a:off x="3786120" y="5389560"/>
            <a:ext cx="1428840" cy="36828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4" descr=""/>
          <p:cNvPicPr/>
          <p:nvPr/>
        </p:nvPicPr>
        <p:blipFill>
          <a:blip r:embed="rId6"/>
          <a:stretch/>
        </p:blipFill>
        <p:spPr>
          <a:xfrm>
            <a:off x="1143000" y="6215040"/>
            <a:ext cx="1143000" cy="3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4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9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4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9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4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5" name="Picture 1" descr=""/>
          <p:cNvPicPr/>
          <p:nvPr/>
        </p:nvPicPr>
        <p:blipFill>
          <a:blip r:embed="rId1"/>
          <a:stretch/>
        </p:blipFill>
        <p:spPr>
          <a:xfrm>
            <a:off x="357120" y="857160"/>
            <a:ext cx="8487000" cy="431496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4" descr=""/>
          <p:cNvPicPr/>
          <p:nvPr/>
        </p:nvPicPr>
        <p:blipFill>
          <a:blip r:embed="rId2"/>
          <a:stretch/>
        </p:blipFill>
        <p:spPr>
          <a:xfrm>
            <a:off x="7500960" y="868320"/>
            <a:ext cx="1143000" cy="36828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4" descr=""/>
          <p:cNvPicPr/>
          <p:nvPr/>
        </p:nvPicPr>
        <p:blipFill>
          <a:blip r:embed="rId3"/>
          <a:stretch/>
        </p:blipFill>
        <p:spPr>
          <a:xfrm>
            <a:off x="1500120" y="1735200"/>
            <a:ext cx="1143000" cy="368280"/>
          </a:xfrm>
          <a:prstGeom prst="rect">
            <a:avLst/>
          </a:prstGeom>
          <a:ln w="0">
            <a:noFill/>
          </a:ln>
        </p:spPr>
      </p:pic>
      <p:pic>
        <p:nvPicPr>
          <p:cNvPr id="1058" name="Picture 4" descr=""/>
          <p:cNvPicPr/>
          <p:nvPr/>
        </p:nvPicPr>
        <p:blipFill>
          <a:blip r:embed="rId4"/>
          <a:stretch/>
        </p:blipFill>
        <p:spPr>
          <a:xfrm>
            <a:off x="5715000" y="2152800"/>
            <a:ext cx="1143000" cy="368280"/>
          </a:xfrm>
          <a:prstGeom prst="rect">
            <a:avLst/>
          </a:prstGeom>
          <a:ln w="0">
            <a:noFill/>
          </a:ln>
        </p:spPr>
      </p:pic>
      <p:pic>
        <p:nvPicPr>
          <p:cNvPr id="1059" name="Picture 4" descr=""/>
          <p:cNvPicPr/>
          <p:nvPr/>
        </p:nvPicPr>
        <p:blipFill>
          <a:blip r:embed="rId5"/>
          <a:stretch/>
        </p:blipFill>
        <p:spPr>
          <a:xfrm>
            <a:off x="7072200" y="2581200"/>
            <a:ext cx="1143000" cy="368280"/>
          </a:xfrm>
          <a:prstGeom prst="rect">
            <a:avLst/>
          </a:prstGeom>
          <a:ln w="0">
            <a:noFill/>
          </a:ln>
        </p:spPr>
      </p:pic>
      <p:pic>
        <p:nvPicPr>
          <p:cNvPr id="1060" name="Picture 4" descr=""/>
          <p:cNvPicPr/>
          <p:nvPr/>
        </p:nvPicPr>
        <p:blipFill>
          <a:blip r:embed="rId6"/>
          <a:stretch/>
        </p:blipFill>
        <p:spPr>
          <a:xfrm>
            <a:off x="4286160" y="3429000"/>
            <a:ext cx="1143000" cy="368280"/>
          </a:xfrm>
          <a:prstGeom prst="rect">
            <a:avLst/>
          </a:prstGeom>
          <a:ln w="0">
            <a:noFill/>
          </a:ln>
        </p:spPr>
      </p:pic>
      <p:pic>
        <p:nvPicPr>
          <p:cNvPr id="1061" name="Picture 4" descr=""/>
          <p:cNvPicPr/>
          <p:nvPr/>
        </p:nvPicPr>
        <p:blipFill>
          <a:blip r:embed="rId7"/>
          <a:stretch/>
        </p:blipFill>
        <p:spPr>
          <a:xfrm>
            <a:off x="1214280" y="4286160"/>
            <a:ext cx="857520" cy="368280"/>
          </a:xfrm>
          <a:prstGeom prst="rect">
            <a:avLst/>
          </a:prstGeom>
          <a:ln w="0">
            <a:noFill/>
          </a:ln>
        </p:spPr>
      </p:pic>
      <p:pic>
        <p:nvPicPr>
          <p:cNvPr id="1062" name="Picture 4" descr=""/>
          <p:cNvPicPr/>
          <p:nvPr/>
        </p:nvPicPr>
        <p:blipFill>
          <a:blip r:embed="rId8"/>
          <a:stretch/>
        </p:blipFill>
        <p:spPr>
          <a:xfrm>
            <a:off x="6429240" y="4278240"/>
            <a:ext cx="1143000" cy="3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1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6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1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6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1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6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1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加冕成王</cp:lastModifiedBy>
  <dcterms:modified xsi:type="dcterms:W3CDTF">2020-07-18T01:25:46Z</dcterms:modified>
  <cp:revision>4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